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867-9FD6-4CFB-81F9-D7621F73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851-DAB6-4F29-B3E2-6679E40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5D8-C91D-4D62-9FC5-6BC1BE9F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6B5-541B-4D01-A674-2B43EA6C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84F-CE39-40EB-B2BB-10D2946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B51-76D3-4BA3-B52E-5700D8B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973-E0AA-4AE8-80FF-0C50A62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556-2A92-4C46-8510-98699A5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B3A-F5BC-4F73-A32E-1EFAA5D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028-D350-4F95-880E-343F3CC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4EF-BB42-4B5F-92A5-544C616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521-085E-41D2-A193-79585E7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A03-1966-469D-A3B0-3C943BFB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radfitzpatrick.com/stock_illustration/images/cartoon_cow_001.gif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cows make Bristol disapp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2320" y="2238480"/>
            <a:ext cx="2619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t’s not just “foreign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im and Moby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resourcesandenvironment/globalwarm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resourcesandenvironment/greenhouseeffec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se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592280"/>
            <a:ext cx="4176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epa.gov/climatechange/kids/global_warming_version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et.org/globalwarming/sea_leve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are you going to do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member of this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year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ntarctica melt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cows make Bristol disapp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62320" y="2238480"/>
            <a:ext cx="2619360" cy="238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256536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fabulous place for a honeymoon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n Affiliation with AllPosters.com"/>
          <p:cNvPicPr/>
          <p:nvPr/>
        </p:nvPicPr>
        <p:blipFill>
          <a:blip r:embed="rId1"/>
          <a:stretch/>
        </p:blipFill>
        <p:spPr>
          <a:xfrm>
            <a:off x="2556000" y="1916280"/>
            <a:ext cx="41655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fabulous place for a honeymoon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 Affiliation with AllPosters.com"/>
          <p:cNvPicPr/>
          <p:nvPr/>
        </p:nvPicPr>
        <p:blipFill>
          <a:blip r:embed="rId1"/>
          <a:stretch/>
        </p:blipFill>
        <p:spPr>
          <a:xfrm>
            <a:off x="2556000" y="191628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847960" y="2789280"/>
            <a:ext cx="3448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t there quick..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9083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ice mel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lting the 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world to get ho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and 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789360"/>
            <a:ext cx="792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58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ows……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32:41Z</dcterms:created>
  <dc:creator>sthobbsc</dc:creator>
  <dc:description/>
  <dc:language>en-US</dc:language>
  <cp:lastModifiedBy>sthobbsc</cp:lastModifiedBy>
  <dcterms:modified xsi:type="dcterms:W3CDTF">2007-02-13T10:31:01Z</dcterms:modified>
  <cp:revision>4</cp:revision>
  <dc:subject/>
  <dc:title>Can cows make Bristol disappear?</dc:title>
</cp:coreProperties>
</file>